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E9DB-74C5-4C36-9906-3EAA1978D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6F9E-6075-45E2-9EC4-F10038736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lickbiology.com/igcse-plant-reproduction-powerpoint-presentation-worksheet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5667-F81A-42B1-B197-CC983036F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2.nicerweb.com/Locked/media/ch38/flowe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9410-31FE-4663-8303-D125B87EB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parknotes.com/biology/plants/plantclassification/section2.r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27CE-08A0-4493-8A6B-8B8575BD8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dvance.uconn.edu/2004/040209/04020910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EE9F-B3D4-4F42-9DE5-0B86CC1BB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903.nicerweb.com/Locked/media/ch38/pollen_fertiliza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46D0-D18F-4959-B80F-E437EDB7B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boundless.com/biology/textbooks/boundless-biology-textbook/plant-reproduction-32/pollination-and-fertilization-190/development-of-the-seed-725-1195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19C5-FFFD-48B3-B37F-6D2F056A7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ispersal image from: https://www.blendspace.com/lessons/XmPUWR_sqJVY2A/seed-dispersal-migration-hibernation-es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dispersal image from: http://science.psu.edu/news-and-events/2010-news/Carlo2-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of exploding seed dispersal: https://www.youtube.com/watch?v=NsIojj4Pz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1E41-AB79-4C9D-8C4E-3AC9C45C1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9097-9456-4949-9B23-14FC74DC8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D talk link: https://www.ted.com/talks/louie_schwartzberg_the_hidden_beauty_of_pollination?language=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74E-70F1-42A0-9350-2C5882F1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8644-5498-4A2D-B004-AC4D59AF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19CE-4ADE-4DC1-962E-3C2CDCF1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0C1-E353-4B5A-A0FA-AA24912C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6CA1-F8B3-4CE0-9E6F-7168EA67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BA8-1A2F-459D-8C80-F581A32A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D243-B43A-4C85-8B5C-3D4FA89F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6070-FAC0-4454-805C-AFA285A5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742-9BE3-410D-8584-34334A69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92C-71B7-44DE-BA53-B107459F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6200-03E9-48B5-AFD8-5ECE78A0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C45-0BDF-402B-AFC1-8D3B35F3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4326-5081-439A-9D5E-5958DEE7A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NsIojj4PzAo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ted.com/talks/louie_schwartzberg_the_hidden_beauty_of_pollination?language=e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xual Reproducti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Seed Plants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3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ination in Angi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38_02aFlowerStructure-L"/>
          <p:cNvPicPr/>
          <p:nvPr/>
        </p:nvPicPr>
        <p:blipFill>
          <a:blip r:embed="rId1"/>
          <a:stretch/>
        </p:blipFill>
        <p:spPr>
          <a:xfrm>
            <a:off x="1963800" y="1828800"/>
            <a:ext cx="5216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ination in Gymn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28" descr="gymnospermlifecycle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 vs. Cross-Poll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pollen04"/>
          <p:cNvPicPr/>
          <p:nvPr/>
        </p:nvPicPr>
        <p:blipFill>
          <a:blip r:embed="rId1"/>
          <a:stretch/>
        </p:blipFill>
        <p:spPr>
          <a:xfrm>
            <a:off x="1279440" y="1981080"/>
            <a:ext cx="658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38_06DoubleFertilizationA"/>
          <p:cNvPicPr/>
          <p:nvPr/>
        </p:nvPicPr>
        <p:blipFill>
          <a:blip r:embed="rId1"/>
          <a:stretch/>
        </p:blipFill>
        <p:spPr>
          <a:xfrm>
            <a:off x="1973160" y="1981080"/>
            <a:ext cx="51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igure-32-02-09"/>
          <p:cNvPicPr/>
          <p:nvPr/>
        </p:nvPicPr>
        <p:blipFill>
          <a:blip r:embed="rId1"/>
          <a:stretch/>
        </p:blipFill>
        <p:spPr>
          <a:xfrm>
            <a:off x="685800" y="2263680"/>
            <a:ext cx="77724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ed Disper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seed_dispersal- wind"/>
          <p:cNvPicPr/>
          <p:nvPr/>
        </p:nvPicPr>
        <p:blipFill>
          <a:blip r:embed="rId2"/>
          <a:stretch/>
        </p:blipFill>
        <p:spPr>
          <a:xfrm>
            <a:off x="228600" y="1843200"/>
            <a:ext cx="4343400" cy="416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image_mini"/>
          <p:cNvPicPr/>
          <p:nvPr/>
        </p:nvPicPr>
        <p:blipFill>
          <a:blip r:embed="rId3"/>
          <a:stretch/>
        </p:blipFill>
        <p:spPr>
          <a:xfrm>
            <a:off x="4648320" y="2827440"/>
            <a:ext cx="426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includ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genetic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are able to be dispersed from parent plant (less compet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can remain dormant until conditions become favo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idden Beauty of Pollination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evolution of flowers &amp; pollinators is amazing, and our food supply depends largely on this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important to think about how our activities can help, rather than harm the pollin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inspired by this introduction &amp;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xcerp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beautiful film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gs of Life”</a:t>
            </a: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4T01:20:23Z</dcterms:created>
  <dc:creator>rubina khan</dc:creator>
  <dc:description/>
  <dc:language>en-US</dc:language>
  <cp:lastModifiedBy>rubina khan</cp:lastModifiedBy>
  <dcterms:modified xsi:type="dcterms:W3CDTF">2016-03-21T19:26:02Z</dcterms:modified>
  <cp:revision>55</cp:revision>
  <dc:subject/>
  <dc:title>Plant Reproduction</dc:title>
</cp:coreProperties>
</file>